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hdphoto3.wdp" ContentType="image/vnd.ms-photo"/>
  <Override PartName="/ppt/media/image18.png" ContentType="image/png"/>
  <Override PartName="/ppt/media/hdphoto2.wdp" ContentType="image/vnd.ms-photo"/>
  <Override PartName="/ppt/media/image17.png" ContentType="image/png"/>
  <Override PartName="/ppt/media/image13.png" ContentType="image/png"/>
  <Override PartName="/ppt/media/image1.png" ContentType="image/png"/>
  <Override PartName="/ppt/media/hdphoto1.wdp" ContentType="image/vnd.ms-photo"/>
  <Override PartName="/ppt/media/image16.jpeg" ContentType="image/jpeg"/>
  <Override PartName="/ppt/media/image8.png" ContentType="image/png"/>
  <Override PartName="/ppt/media/image14.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60C77-05EE-4F30-A2DC-0A645CF90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6FC6B-7E9F-4422-A3CD-D748F1EB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098DB-2038-48FC-BE8C-06491763F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0165-E575-4A14-84D8-584AB90BA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C2760-EDF7-4B9A-A026-446CC2ECA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4DD89-39AE-49BD-8D01-6FE32D12E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9B6C1-4A51-489A-AB80-8357658AC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DC37E-47BE-4957-ABA3-6269B5C3D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BA3CA-962C-4D3D-AC94-E7BCB55B1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04E5C-40D1-431B-B7EC-C99D2BB2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6558A-4E76-4F20-8CB1-F2109A6B0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9303-5011-4134-B7A9-AB194C86B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11CF3-70BA-426C-8520-F85210C9D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955F6-6E22-4FDA-9FFE-6DEB0D4C7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2E8A0-2FB3-4EE0-BAB3-9F5774AB6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8F72B-4DB3-48C4-B297-62D2619BF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ECC40-BCA1-46E1-850B-7B215FC51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35C9-3E37-4420-B26D-29EC6E4E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31CF-EFAF-4DEC-B7D6-CB079520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41582-E89D-48CA-8B60-6BDD2C93A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8F65C-526F-4F53-958B-FC72D6AB2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F10F-66F9-4CA1-9006-41C0F2B17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57C9-182D-4077-B2D4-FB3891BF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C1EF-0D06-44AD-B681-2DADA1C87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116A23A-A3DA-4DC4-AACB-B958DFB7706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32EC8F1-2F1E-48DB-A6E4-C1CF130B0E45}"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2.wdp"/><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microsoft.com/office/2007/relationships/hdphoto" Target="../media/hdphoto3.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3640" y="306900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r>
              <a:rPr b="0" lang="ru-RU" sz="4400" spc="-1" strike="noStrike">
                <a:solidFill>
                  <a:srgbClr val="000000"/>
                </a:solidFill>
                <a:latin typeface="Calibri"/>
              </a:rPr>
              <a:t>Катодолюминесцентные экраны ЭОП.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260640"/>
            <a:ext cx="8229240" cy="6192360"/>
          </a:xfrm>
          <a:prstGeom prst="rect">
            <a:avLst/>
          </a:prstGeom>
          <a:noFill/>
          <a:ln w="0">
            <a:noFill/>
          </a:ln>
        </p:spPr>
        <p:txBody>
          <a:bodyPr anchor="t">
            <a:normAutofit fontScale="21000"/>
          </a:bodyPr>
          <a:p>
            <a:pPr marL="288000" indent="-288000" algn="ctr">
              <a:lnSpc>
                <a:spcPct val="100000"/>
              </a:lnSpc>
              <a:spcBef>
                <a:spcPts val="799"/>
              </a:spcBef>
              <a:buClr>
                <a:srgbClr val="000000"/>
              </a:buClr>
              <a:buFont typeface="Arial"/>
              <a:buChar char="•"/>
            </a:pPr>
            <a:r>
              <a:rPr b="1" lang="ru-RU" sz="4000" spc="-1" strike="noStrike">
                <a:solidFill>
                  <a:srgbClr val="000000"/>
                </a:solidFill>
                <a:latin typeface="Calibri"/>
              </a:rPr>
              <a:t>Методы нанесения люминофора на экран</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ама технология изготовления УЭ состоит из нескольких этапов: нанесение на подложку слоя люминофора, нанесение органической пленки, нанесение проводящего слоя алюминия. При разных технологиях выполнения того или иного процесса могут возникать некоторые дополнительные процессы, такие как нанесение липкого слоя на подложку, закрепление люминофора и т.п. Рассмотрим первый из основных этапов — нанесение люминофора на подложку и варианты методов исполнения данной опер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осажде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ов осаждений существует множество, но все имеют одинаковые выходные параметры получаемого люминесцентного покрытия. Суть заключается в том, что из разнообразных растворов путем химических реакций, на образец осаждается суспензия люминофора, содержащаяся в данном растворе. Примеры:</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олучение люминесцентного экрана путем осаждения суспензий люминофора </a:t>
            </a:r>
            <a:r>
              <a:rPr b="0" i="1" lang="ru-RU" sz="4000" spc="-1" strike="noStrike">
                <a:solidFill>
                  <a:srgbClr val="000000"/>
                </a:solidFill>
                <a:latin typeface="Calibri"/>
              </a:rPr>
              <a:t>из водных растворов силиката калия</a:t>
            </a:r>
            <a:r>
              <a:rPr b="0" lang="ru-RU" sz="4000" spc="-1" strike="noStrike">
                <a:solidFill>
                  <a:srgbClr val="000000"/>
                </a:solidFill>
                <a:latin typeface="Calibri"/>
              </a:rPr>
              <a:t>  </a:t>
            </a:r>
            <a:r>
              <a:rPr b="0" lang="en-US" sz="4000" spc="-1" strike="noStrike">
                <a:solidFill>
                  <a:srgbClr val="000000"/>
                </a:solidFill>
                <a:latin typeface="Calibri"/>
              </a:rPr>
              <a:t>K</a:t>
            </a:r>
            <a:r>
              <a:rPr b="0" lang="en-US" sz="4000" spc="-1" strike="noStrike" baseline="-25000">
                <a:solidFill>
                  <a:srgbClr val="000000"/>
                </a:solidFill>
                <a:latin typeface="Calibri"/>
              </a:rPr>
              <a:t>2</a:t>
            </a:r>
            <a:r>
              <a:rPr b="0" lang="en-US" sz="4000" spc="-1" strike="noStrike">
                <a:solidFill>
                  <a:srgbClr val="000000"/>
                </a:solidFill>
                <a:latin typeface="Calibri"/>
              </a:rPr>
              <a:t>O x mSiO</a:t>
            </a:r>
            <a:r>
              <a:rPr b="0" lang="en-US" sz="4000" spc="-1" strike="noStrike" baseline="-25000">
                <a:solidFill>
                  <a:srgbClr val="000000"/>
                </a:solidFill>
                <a:latin typeface="Calibri"/>
              </a:rPr>
              <a:t>2</a:t>
            </a:r>
            <a:r>
              <a:rPr b="0" lang="en-US" sz="4000" spc="-1" strike="noStrike">
                <a:solidFill>
                  <a:srgbClr val="000000"/>
                </a:solidFill>
                <a:latin typeface="Calibri"/>
              </a:rPr>
              <a:t>) </a:t>
            </a:r>
            <a:r>
              <a:rPr b="0" lang="ru-RU" sz="4000" spc="-1" strike="noStrike">
                <a:solidFill>
                  <a:srgbClr val="000000"/>
                </a:solidFill>
                <a:latin typeface="Calibri"/>
              </a:rPr>
              <a:t>в присутствии коагулирующего веществ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данного способа является очень низкое сцепление люминофорного покрытия со стеклянной подложкой, на которую он наносится. Помимо этого, суспензии, используемые для выполнения таких операций, являются агрегативно-неустойчивыми, а покрытия неравномерными, а зачастую ещё и рыхлы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ругим методом по типу осаждения является метод осаждения люминофора в гравитационном поле из суспензии </a:t>
            </a:r>
            <a:r>
              <a:rPr b="0" i="1" lang="ru-RU" sz="4000" spc="-1" strike="noStrike">
                <a:solidFill>
                  <a:srgbClr val="000000"/>
                </a:solidFill>
                <a:latin typeface="Calibri"/>
              </a:rPr>
              <a:t>в водном растворе, содержащем полиметакриловой кислоты (ПМАК) и триэтиламина (ТЭА), </a:t>
            </a:r>
            <a:r>
              <a:rPr b="0" lang="ru-RU" sz="4000" spc="-1" strike="noStrike">
                <a:solidFill>
                  <a:srgbClr val="000000"/>
                </a:solidFill>
                <a:latin typeface="Calibri"/>
              </a:rPr>
              <a:t>причем коагулирующее вещество нитрат стронция вносят в систему после осаждения люминофорных частиц на подложку и формирования люминесцентного слоя определенной удельной навеск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этого способа является то, что получаемые покрытия являются неоднородными, имеют большую межэлементную неравномерность яркости свечения и низкую плотность упаковки частиц в большинстве из-за использования суспензий с широким фракционным распределением, в которых не редко происходят процессы агрег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пульверизации и метод «напудрив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ы пульверизации (простого распыления) и напудривания на данный момент практически не используются в производстве. Причиной является довльно низкое и нестабильное качество получаемых люминесцентных покрытий.</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Как и при методе пульверизации, так и при методе напудривания, на подложку необходимо нанести липкий слой лака, а после вручную с помощью кисточки или пульверизатора нанести слой люминофор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этих способов является неравномерность покрытий, получаемых из различного размера зерен люминофора, и, вследствие, высокая структурная неоднородность.</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фотопечат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ля данного метода делают суспензию люминофора нужного свечения в водно-спиртовом растворе поливинилового спирта. Суспензию наносят на экран поливом. Покрытие сушат, после этого засвечивают через фотографически полученную маску определенные места (точки) фоторезиста, а затем счищают с незащищенных мест фоторезист (проявлен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данного метода является то, что часто при проявлении снимается и часть слоя люминофора тоже.</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электрофореза (катафорез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роцесс катафореза заключается в том, что тонкодисперсные частицы твердой фазы, заряженные положительно и находящиеся в жидкости во взвешенном состоянии, при воздействии электрического поля начинают двигаться к катоду и, разряжаясь на нем, имеют свойство давать достаточно плотное и прочное покрыт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В состав суспензии кроме взвешенного вещества (люминофор), а также основной жидкости, должен входить ещё один элемент. Он называется «зарядчик».</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Основной недостаток данного метода заключается в следующем: при жидкофазном катафорезе невозможно точно узнать на какое время необходимо помещать подложку в ванну с раствором, чтобы получить слой люминофора необходимой толщины.</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Сухой метод нанесения люминофора (путем втир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уть метода заключается в том, что люминофор наносится на подложку, смоченную липким слоем, и какими-либо механическими манипуляциями втирается поролоном, мягкой кожей или другими втирательными элемента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br>
              <a:rPr sz="4000"/>
            </a:br>
            <a:r>
              <a:rPr b="0" lang="ru-RU" sz="4000" spc="-1" strike="noStrike">
                <a:solidFill>
                  <a:srgbClr val="000000"/>
                </a:solidFill>
                <a:latin typeface="Calibri"/>
              </a:rPr>
              <a:t> </a:t>
            </a:r>
            <a:endParaRPr b="0" lang="ru-RU" sz="40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9640" y="260640"/>
            <a:ext cx="8229240" cy="6597000"/>
          </a:xfrm>
          <a:prstGeom prst="rect">
            <a:avLst/>
          </a:prstGeom>
          <a:noFill/>
          <a:ln w="0">
            <a:noFill/>
          </a:ln>
        </p:spPr>
        <p:txBody>
          <a:bodyPr anchor="t">
            <a:normAutofit fontScale="52000"/>
          </a:bodyPr>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и качества передачи изображения порошковых экранов ЭОП обусловлены главным образом рассеянием света на зернах люминофора и определяются толщиной слоя порошка люминофора, если величина зерен меньше толщины слоя и если зерна плотно упакован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ЧКХ экранов, полученных различными методами: 1 — нанесением воздушной струей; 2 —методом катафореза;3 — методом осаждения; 4 — бесструктурный прозрачный</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Яркость свечения экранов, полученных различными методами:</a:t>
            </a: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1 — бесструктурный прозрачный; 2 — матовый бесструктурный; 3 —монослойный порошковый (нанесение в воздушной струе); 4 — многослойный порошковый (катафорез); 5 — многослойный порошковый (осажден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2" name="Picture 2" descr=""/>
          <p:cNvPicPr/>
          <p:nvPr/>
        </p:nvPicPr>
        <p:blipFill>
          <a:blip r:embed="rId1"/>
          <a:stretch/>
        </p:blipFill>
        <p:spPr>
          <a:xfrm>
            <a:off x="3185280" y="1412640"/>
            <a:ext cx="2601000" cy="1223640"/>
          </a:xfrm>
          <a:prstGeom prst="rect">
            <a:avLst/>
          </a:prstGeom>
          <a:ln w="0">
            <a:noFill/>
          </a:ln>
        </p:spPr>
      </p:pic>
      <p:pic>
        <p:nvPicPr>
          <p:cNvPr id="103" name="Picture 3" descr=""/>
          <p:cNvPicPr/>
          <p:nvPr/>
        </p:nvPicPr>
        <p:blipFill>
          <a:blip r:embed="rId2"/>
          <a:stretch/>
        </p:blipFill>
        <p:spPr>
          <a:xfrm>
            <a:off x="3708000" y="3573000"/>
            <a:ext cx="2238120" cy="163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240" cy="5505120"/>
          </a:xfrm>
          <a:prstGeom prst="rect">
            <a:avLst/>
          </a:prstGeom>
          <a:noFill/>
          <a:ln w="0">
            <a:noFill/>
          </a:ln>
        </p:spPr>
        <p:txBody>
          <a:bodyPr anchor="t">
            <a:normAutofit fontScale="60000"/>
          </a:bodyPr>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Процесс изготовления экранов методом осаждения слагается из следующих стадий: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1 Варка концентрированного раствора силиката калия(</a:t>
            </a:r>
            <a:r>
              <a:rPr b="0" lang="en-US" sz="3200" spc="-1" strike="noStrike">
                <a:solidFill>
                  <a:srgbClr val="000000"/>
                </a:solidFill>
                <a:latin typeface="Calibri"/>
              </a:rPr>
              <a:t>K</a:t>
            </a:r>
            <a:r>
              <a:rPr b="0" lang="ru-RU" sz="3200" spc="-1" strike="noStrike" baseline="-25000">
                <a:solidFill>
                  <a:srgbClr val="000000"/>
                </a:solidFill>
                <a:latin typeface="Calibri"/>
              </a:rPr>
              <a:t>2</a:t>
            </a:r>
            <a:r>
              <a:rPr b="0" lang="ru-RU" sz="3200" spc="-1" strike="noStrike">
                <a:solidFill>
                  <a:srgbClr val="000000"/>
                </a:solidFill>
                <a:latin typeface="Calibri"/>
              </a:rPr>
              <a:t>Ох </a:t>
            </a:r>
            <a:r>
              <a:rPr b="0" lang="en-US" sz="3200" spc="-1" strike="noStrike">
                <a:solidFill>
                  <a:srgbClr val="000000"/>
                </a:solidFill>
                <a:latin typeface="Calibri"/>
              </a:rPr>
              <a:t>mSiO</a:t>
            </a:r>
            <a:r>
              <a:rPr b="0" lang="en-US" sz="3200" spc="-1" strike="noStrike" baseline="-25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 </a:t>
            </a:r>
            <a:r>
              <a:rPr b="0" lang="ru-RU" sz="3200" spc="-1" strike="noStrike">
                <a:solidFill>
                  <a:srgbClr val="000000"/>
                </a:solidFill>
                <a:latin typeface="Calibri"/>
              </a:rPr>
              <a:t>2 Приготовления рабочего раствора силиката калия,где </a:t>
            </a:r>
            <a:r>
              <a:rPr b="0" lang="en-US" sz="3200" spc="-1" strike="noStrike">
                <a:solidFill>
                  <a:srgbClr val="000000"/>
                </a:solidFill>
                <a:latin typeface="Calibri"/>
              </a:rPr>
              <a:t>m –</a:t>
            </a:r>
            <a:r>
              <a:rPr b="0" lang="ru-RU" sz="3200" spc="-1" strike="noStrike">
                <a:solidFill>
                  <a:srgbClr val="000000"/>
                </a:solidFill>
                <a:latin typeface="Calibri"/>
              </a:rPr>
              <a:t>модуль силиката, равный отношению количества грамм-молекул </a:t>
            </a:r>
            <a:r>
              <a:rPr b="0" lang="en-US" sz="3200" spc="-1" strike="noStrike">
                <a:solidFill>
                  <a:srgbClr val="000000"/>
                </a:solidFill>
                <a:latin typeface="Calibri"/>
              </a:rPr>
              <a:t>SiO</a:t>
            </a:r>
            <a:r>
              <a:rPr b="0" lang="en-US" sz="3200" spc="-1" strike="noStrike" baseline="-25000">
                <a:solidFill>
                  <a:srgbClr val="000000"/>
                </a:solidFill>
                <a:latin typeface="Calibri"/>
              </a:rPr>
              <a:t>2</a:t>
            </a:r>
            <a:r>
              <a:rPr b="0" lang="en-US" sz="3200" spc="-1" strike="noStrike">
                <a:solidFill>
                  <a:srgbClr val="000000"/>
                </a:solidFill>
                <a:latin typeface="Calibri"/>
              </a:rPr>
              <a:t> </a:t>
            </a:r>
            <a:r>
              <a:rPr b="0" lang="ru-RU" sz="3200" spc="-1" strike="noStrike">
                <a:solidFill>
                  <a:srgbClr val="000000"/>
                </a:solidFill>
                <a:latin typeface="Calibri"/>
              </a:rPr>
              <a:t>к количеству грамм-молекул </a:t>
            </a:r>
            <a:r>
              <a:rPr b="0" lang="en-US" sz="3200" spc="-1" strike="noStrike">
                <a:solidFill>
                  <a:srgbClr val="000000"/>
                </a:solidFill>
                <a:latin typeface="Calibri"/>
              </a:rPr>
              <a:t>K</a:t>
            </a:r>
            <a:r>
              <a:rPr b="0" lang="en-US" sz="3200" spc="-1" strike="noStrike" baseline="-25000">
                <a:solidFill>
                  <a:srgbClr val="000000"/>
                </a:solidFill>
                <a:latin typeface="Calibri"/>
              </a:rPr>
              <a:t>2</a:t>
            </a:r>
            <a:r>
              <a:rPr b="0" lang="en-US" sz="3200" spc="-1" strike="noStrike">
                <a:solidFill>
                  <a:srgbClr val="000000"/>
                </a:solidFill>
                <a:latin typeface="Calibri"/>
              </a:rPr>
              <a:t>O </a:t>
            </a:r>
            <a:r>
              <a:rPr b="0" lang="ru-RU" sz="3200" spc="-1" strike="noStrike">
                <a:solidFill>
                  <a:srgbClr val="000000"/>
                </a:solidFill>
                <a:latin typeface="Calibri"/>
              </a:rPr>
              <a:t>в одном литре раствора) и азотнокислого стронция (для компенсации отрицательного заряда </a:t>
            </a:r>
            <a:r>
              <a:rPr b="0" lang="en-US" sz="3200" spc="-1" strike="noStrike">
                <a:solidFill>
                  <a:srgbClr val="000000"/>
                </a:solidFill>
                <a:latin typeface="Calibri"/>
              </a:rPr>
              <a:t>Si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3 Осаждения люминофора из суспензии под действием силы тяжести на поверхности подлож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4 Закрепление люминесцентного покрытия на подложке под действием химических и физических процессов, происходящих в рабочем растворе;</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5 Закрепление люминесцентного покрытия после удаления жидкости (рабочего раствора) из колбы:</a:t>
            </a:r>
            <a:r>
              <a:rPr b="0" lang="en-US" sz="3200" spc="-1" strike="noStrike">
                <a:solidFill>
                  <a:srgbClr val="000000"/>
                </a:solidFill>
                <a:latin typeface="Calibri"/>
              </a:rPr>
              <a:t> </a:t>
            </a:r>
            <a:r>
              <a:rPr b="0" lang="ru-RU" sz="3200" spc="-1" strike="noStrike">
                <a:solidFill>
                  <a:srgbClr val="000000"/>
                </a:solidFill>
                <a:latin typeface="Calibri"/>
              </a:rPr>
              <a:t>сушка (80-100С) и обжиг (450-500С)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6 Нанесение органической плен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7 Нанесение алюминиевого покрытия;</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8 Выжигание органической пленки (420-450С).</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lang="ru-RU" sz="2000" spc="-1" strike="noStrike">
                <a:solidFill>
                  <a:srgbClr val="000000"/>
                </a:solidFill>
                <a:latin typeface="Calibri"/>
              </a:rPr>
              <a:t>Метод измерения разрешающей способности на ПРСЛ</a:t>
            </a:r>
            <a:br>
              <a:rPr sz="2000"/>
            </a:br>
            <a:endParaRPr b="0" lang="ru-RU" sz="2000" spc="-1" strike="noStrike">
              <a:solidFill>
                <a:srgbClr val="000000"/>
              </a:solidFill>
              <a:latin typeface="Calibri"/>
            </a:endParaRPr>
          </a:p>
        </p:txBody>
      </p:sp>
      <p:sp>
        <p:nvSpPr>
          <p:cNvPr id="106" name="PlaceHolder 2"/>
          <p:cNvSpPr>
            <a:spLocks noGrp="1"/>
          </p:cNvSpPr>
          <p:nvPr>
            <p:ph/>
          </p:nvPr>
        </p:nvSpPr>
        <p:spPr>
          <a:xfrm>
            <a:off x="395640" y="657360"/>
            <a:ext cx="8229240" cy="543564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Для определения разрешения экрана нужно спроектировать на него изображе-ние какой-либо определенной периодической структуры, например, металли-ческой сетки с постоянным шагом и измерять наименьшее расстояние между ее элементами.</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Уменьшить изображение объекта на экране нужно так, чтобы элементы этого изображения были почти не различимы.</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приборе для измерения разрешающей способности (разрешения) экранов использован метод, предложенный академиком А.А. Лебедевым. Этот метод основан на измерении уменьшенного с помощью электронной электростати-ческой линзы изображения металлической сетки, проектируемой на экран.</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качестве объекта применена тонкая металлическая сетка с шагом 0,06 мм и размерами ячеек 0,03 мм. Разрешающая способность является одной из наиболее существенных характеристик технических люминесцентных экранов.</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Обычно для определения этой характеристики экрана используется термин-предельное разрешение. Критерием предельного разрешения экрана является  различимость половины числа светящихся ячеек сетки по диаметру  изобра-жения и при дальнейшем незначительном уменьшении изображенной сетки различить их раздельно уже невозможно.</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290280" y="1700640"/>
            <a:ext cx="2673720" cy="4275360"/>
          </a:xfrm>
          <a:prstGeom prst="rect">
            <a:avLst/>
          </a:prstGeom>
          <a:ln w="0">
            <a:noFill/>
          </a:ln>
        </p:spPr>
      </p:pic>
      <p:sp>
        <p:nvSpPr>
          <p:cNvPr id="108" name="Прямоугольник 3"/>
          <p:cNvSpPr/>
          <p:nvPr/>
        </p:nvSpPr>
        <p:spPr>
          <a:xfrm>
            <a:off x="539640" y="116640"/>
            <a:ext cx="7920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нципиальная схема измерения разрешающей способности экранов. </a:t>
            </a:r>
            <a:endParaRPr b="0" lang="en-US" sz="1800" spc="-1" strike="noStrike">
              <a:solidFill>
                <a:srgbClr val="000000"/>
              </a:solidFill>
              <a:latin typeface="Arial"/>
            </a:endParaRPr>
          </a:p>
        </p:txBody>
      </p:sp>
      <p:sp>
        <p:nvSpPr>
          <p:cNvPr id="109" name="Прямоугольник 4"/>
          <p:cNvSpPr/>
          <p:nvPr/>
        </p:nvSpPr>
        <p:spPr>
          <a:xfrm>
            <a:off x="539640" y="625320"/>
            <a:ext cx="5904360" cy="520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Электронный пучок создается обычной трехэлектродной осветительной системой, применяемой в электронной микроскопии.</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Источником электронов служит </a:t>
            </a:r>
            <a:r>
              <a:rPr b="0" lang="en-US" sz="1200" spc="-1" strike="noStrike">
                <a:solidFill>
                  <a:srgbClr val="000000"/>
                </a:solidFill>
                <a:latin typeface="Calibri"/>
              </a:rPr>
              <a:t>V</a:t>
            </a:r>
            <a:r>
              <a:rPr b="0" lang="ru-RU" sz="1200" spc="-1" strike="noStrike">
                <a:solidFill>
                  <a:srgbClr val="000000"/>
                </a:solidFill>
                <a:latin typeface="Calibri"/>
              </a:rPr>
              <a:t>-образный вольфрамовый катод (8). После вылета с катода электроны проходят в отверстие управляющего электрода (7), потенциал которого регулируется потенциометром (</a:t>
            </a:r>
            <a:r>
              <a:rPr b="0" lang="en-US" sz="1200" spc="-1" strike="noStrike">
                <a:solidFill>
                  <a:srgbClr val="000000"/>
                </a:solidFill>
                <a:latin typeface="Calibri"/>
              </a:rPr>
              <a:t>R</a:t>
            </a:r>
            <a:r>
              <a:rPr b="0" lang="ru-RU" sz="1200" spc="-1" strike="noStrike">
                <a:solidFill>
                  <a:srgbClr val="000000"/>
                </a:solidFill>
                <a:latin typeface="Calibri"/>
              </a:rPr>
              <a:t>), и ускоряются анодом (6).</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Электронный пучок, создаваемый осветительной системой, проходит через ограничительную диаграмму (5) и падает на металлическую мелкоструктурную сетку (4). Вследствие сильного диафрагмирования этот пучок электронов можно считать почти параллельны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Разрешающая способность измеряется на оси преобразователя по стандартным штриховым мирам ГОИ, принятым для контроля и испытания оптических приборов и систем в оптико-механической промышленности; пределы измерений от 12,5 до 100 штрихов на мм. Измерение разрешающей способности производятся с фотообъективом «Юпитер-3» с фокусным расстоянием </a:t>
            </a:r>
            <a:r>
              <a:rPr b="0" lang="en-US" sz="1200" spc="-1" strike="noStrike">
                <a:solidFill>
                  <a:srgbClr val="000000"/>
                </a:solidFill>
                <a:latin typeface="Calibri"/>
              </a:rPr>
              <a:t>f</a:t>
            </a:r>
            <a:r>
              <a:rPr b="0" lang="ru-RU" sz="1200" spc="-1" strike="noStrike">
                <a:solidFill>
                  <a:srgbClr val="000000"/>
                </a:solidFill>
                <a:latin typeface="Calibri"/>
              </a:rPr>
              <a:t>=52,4 мм и относительным отверстием 1:1,5 задиафрагмированныдо относительного отверстия 1:4,5 и лупой 15-кратного увеличения. Электроны пучка, прошедшие сквозь ячейки сетки и сфокусированные одиночной симметричной электростатической линзой (3), проектируются ею на исследуемом экране (2) и создают на нем теневое электронное изображение сетк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Люминофор марки КС 527-1, наносимый методом жидкостного осаждения, обеспечивает высокую разрешающую способность экрана на уровне 190-210 штр/мм Т.К. ЭОПы 2+ поколения,. как российского так и их зарубежные аналоги, имеют разрешающую способность на уровне от 33 до 70 штр/мм, то имеется запас по разрешению экранного узла. Однако , имеется ряд  технологических проблем его нанесения. Поэтому сегодня реализуется метод сухого нанесения (втирания) люминоф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640"/>
            <a:ext cx="8229240" cy="5505120"/>
          </a:xfrm>
          <a:prstGeom prst="rect">
            <a:avLst/>
          </a:prstGeom>
          <a:noFill/>
          <a:ln w="0">
            <a:noFill/>
          </a:ln>
        </p:spPr>
        <p:txBody>
          <a:bodyPr anchor="t">
            <a:normAutofit fontScale="56000"/>
          </a:bodyPr>
          <a:p>
            <a:pPr marL="307080" indent="-307080" algn="ctr">
              <a:lnSpc>
                <a:spcPct val="100000"/>
              </a:lnSpc>
              <a:spcBef>
                <a:spcPts val="641"/>
              </a:spcBef>
              <a:buClr>
                <a:srgbClr val="000000"/>
              </a:buClr>
              <a:buFont typeface="Arial"/>
              <a:buChar char="•"/>
            </a:pPr>
            <a:r>
              <a:rPr b="1" lang="ru-RU" sz="3200" spc="-1" strike="noStrike">
                <a:solidFill>
                  <a:srgbClr val="000000"/>
                </a:solidFill>
                <a:latin typeface="Calibri"/>
              </a:rPr>
              <a:t>метод сухого нанесения </a:t>
            </a:r>
            <a:endParaRPr b="0" lang="ru-RU" sz="3200" spc="-1" strike="noStrike">
              <a:solidFill>
                <a:srgbClr val="000000"/>
              </a:solidFill>
              <a:latin typeface="Calibri"/>
            </a:endParaRPr>
          </a:p>
          <a:p>
            <a:pPr marL="358200" indent="0" algn="just">
              <a:lnSpc>
                <a:spcPct val="100000"/>
              </a:lnSpc>
              <a:spcBef>
                <a:spcPts val="581"/>
              </a:spcBef>
              <a:buNone/>
              <a:tabLst>
                <a:tab algn="l" pos="0"/>
              </a:tabLst>
            </a:pPr>
            <a:r>
              <a:rPr b="0" lang="ru-RU" sz="2900" spc="-1" strike="noStrike">
                <a:solidFill>
                  <a:srgbClr val="000000"/>
                </a:solidFill>
                <a:latin typeface="Calibri"/>
              </a:rPr>
              <a:t>Непосредственно перед операцией на стеклянную подложку необходимо нанести липкий слой. Слой должен быть равномерным. После этого подложку отправляют на центрифугу и посыпают люминофором так, чтобы он полностью покрывал поверхность. При посыпании люминофор необходимо просеять через сито, иначе он может скомкиваться, что негативно отразиться на качестве втирания. Далее оператор раскручивает центрифугу и одновременно с этим на поперечными движениями поролона аккуратно втирает люминофор. После завершения цикла необходимо обдуть излишек люминофора в раструб включенного пылесоса. В завершении экран отправляют на последующую операцию зачистки и закрепления в печи.</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Недостатками метода являются необходимые условия, а именно специально обеспыленные помещения. Но в большей степени неавтоматизированность процесса так, как само втирание производится человеком, что привлекает собой человеческий фактор: время втирания, скорость движения поролона, сила нажима на УЭ несущественно, но все же различаются для разных образцов. В следствие чего готовые УЭ имеют различные выходные параметры (такие как светопропускание), заметно повышается уровень брака.</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Суть метода автоматического втирания останется той же, однако исключается человеческий фактор за счет пневматической конструкции с держателем поролона, которая будет совершать втирание с заданной ей скоростью поперечного движения и силой </a:t>
            </a:r>
            <a:r>
              <a:rPr b="0" lang="ru-RU" sz="2600" spc="-1" strike="noStrike">
                <a:solidFill>
                  <a:srgbClr val="000000"/>
                </a:solidFill>
                <a:latin typeface="Calibri"/>
              </a:rPr>
              <a:t>нажима на экран. </a:t>
            </a:r>
            <a:endParaRPr b="0" lang="ru-RU" sz="26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561600"/>
          </a:xfrm>
          <a:prstGeom prst="rect">
            <a:avLst/>
          </a:prstGeom>
          <a:noFill/>
          <a:ln w="0">
            <a:noFill/>
          </a:ln>
        </p:spPr>
        <p:txBody>
          <a:bodyPr anchor="ctr">
            <a:normAutofit fontScale="70000"/>
          </a:bodyPr>
          <a:p>
            <a:pPr indent="0" algn="ctr">
              <a:lnSpc>
                <a:spcPct val="100000"/>
              </a:lnSpc>
              <a:buNone/>
            </a:pPr>
            <a:r>
              <a:rPr b="0" lang="ru-RU" sz="4400" spc="-1" strike="noStrike">
                <a:solidFill>
                  <a:srgbClr val="000000"/>
                </a:solidFill>
                <a:latin typeface="Calibri"/>
              </a:rPr>
              <a:t>Люминофор + орг. пленка</a:t>
            </a:r>
            <a:endParaRPr b="0" lang="ru-RU" sz="4400" spc="-1" strike="noStrike">
              <a:solidFill>
                <a:srgbClr val="000000"/>
              </a:solidFill>
              <a:latin typeface="Calibri"/>
            </a:endParaRPr>
          </a:p>
        </p:txBody>
      </p:sp>
      <p:pic>
        <p:nvPicPr>
          <p:cNvPr id="112" name="Picture 2" descr=""/>
          <p:cNvPicPr/>
          <p:nvPr/>
        </p:nvPicPr>
        <p:blipFill>
          <a:blip r:embed="rId1"/>
          <a:stretch/>
        </p:blipFill>
        <p:spPr>
          <a:xfrm>
            <a:off x="2538000" y="739080"/>
            <a:ext cx="4842000" cy="538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1619640" y="188640"/>
            <a:ext cx="6336360" cy="591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ленка алюминия на люминофоре</a:t>
            </a:r>
            <a:endParaRPr b="0" lang="ru-RU" sz="4400" spc="-1" strike="noStrike">
              <a:solidFill>
                <a:srgbClr val="000000"/>
              </a:solidFill>
              <a:latin typeface="Calibri"/>
            </a:endParaRPr>
          </a:p>
        </p:txBody>
      </p:sp>
      <p:pic>
        <p:nvPicPr>
          <p:cNvPr id="115" name="Picture 2" descr=""/>
          <p:cNvPicPr/>
          <p:nvPr/>
        </p:nvPicPr>
        <p:blipFill>
          <a:blip r:embed="rId1"/>
          <a:stretch/>
        </p:blipFill>
        <p:spPr>
          <a:xfrm>
            <a:off x="539640" y="1845000"/>
            <a:ext cx="3977280" cy="4123800"/>
          </a:xfrm>
          <a:prstGeom prst="rect">
            <a:avLst/>
          </a:prstGeom>
          <a:ln w="0">
            <a:noFill/>
          </a:ln>
        </p:spPr>
      </p:pic>
      <p:pic>
        <p:nvPicPr>
          <p:cNvPr id="116" name="Picture 3" descr=""/>
          <p:cNvPicPr/>
          <p:nvPr/>
        </p:nvPicPr>
        <p:blipFill>
          <a:blip r:embed="rId2"/>
          <a:stretch/>
        </p:blipFill>
        <p:spPr>
          <a:xfrm>
            <a:off x="4788000" y="1845000"/>
            <a:ext cx="3960000" cy="411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18" name="Объект 3" descr="C:\Users\Sasha\Desktop\экран 2016\Berkin2017_01-23\web\SEIA626A7EC7FD_MVMPe.jpg"/>
          <p:cNvPicPr/>
          <p:nvPr/>
        </p:nvPicPr>
        <p:blipFill>
          <a:blip r:embed="rId1"/>
          <a:stretch/>
        </p:blipFill>
        <p:spPr>
          <a:xfrm>
            <a:off x="2339640" y="1340640"/>
            <a:ext cx="5400360" cy="46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548640"/>
            <a:ext cx="8229240" cy="5577120"/>
          </a:xfrm>
          <a:prstGeom prst="rect">
            <a:avLst/>
          </a:prstGeom>
          <a:noFill/>
          <a:ln w="0">
            <a:noFill/>
          </a:ln>
        </p:spPr>
        <p:txBody>
          <a:bodyPr anchor="t">
            <a:normAutofit fontScale="69000"/>
          </a:bodyPr>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есцентный экран ЭОП состоит из подложки, непосредственно частиц катодолюминофора и тонкого металлического слоя для блокирования и обратного отражения света.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офоры изготавливаются из неорганических сульфидных редкоземельных или силикатных соединений. Кристаллы такого катодолюминофора являются диэлектриками с широкой (более 3 эВ) запрещенной зоной.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В качестве подложки используется, как правило, стекло или волоконно-оптический элемент ((ВОЭ) с поворотом или без поворота изображения.</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Процесс катодолюминесценции состоит из трех стадий:</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глощение кристаллом энергии первичного электрона;</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еренос и накопление этой энергии;</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ревращение накопленной энергии в световую энергию.</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20" name="Picture 2" descr=""/>
          <p:cNvPicPr/>
          <p:nvPr/>
        </p:nvPicPr>
        <p:blipFill>
          <a:blip r:embed="rId1"/>
          <a:stretch/>
        </p:blipFill>
        <p:spPr>
          <a:xfrm>
            <a:off x="323640" y="1196640"/>
            <a:ext cx="3888000" cy="4032720"/>
          </a:xfrm>
          <a:prstGeom prst="rect">
            <a:avLst/>
          </a:prstGeom>
          <a:ln w="0">
            <a:noFill/>
          </a:ln>
        </p:spPr>
      </p:pic>
      <p:pic>
        <p:nvPicPr>
          <p:cNvPr id="121" name="Рисунок 4" descr="C:\Users\Sasha\Desktop\экран 2016\Berkin2017_01-23\web\SEIA6263B0C7AB_IAESe.jpg"/>
          <p:cNvPicPr/>
          <p:nvPr/>
        </p:nvPicPr>
        <p:blipFill>
          <a:blip r:embed="rId2"/>
          <a:stretch/>
        </p:blipFill>
        <p:spPr>
          <a:xfrm>
            <a:off x="4644000" y="1268640"/>
            <a:ext cx="3461040" cy="398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63360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Times New Roman"/>
              </a:rPr>
              <a:t>Высоковольтный источник питания (ВИП)</a:t>
            </a:r>
            <a:endParaRPr b="0" lang="ru-RU" sz="2800" spc="-1" strike="noStrike">
              <a:solidFill>
                <a:srgbClr val="000000"/>
              </a:solidFill>
              <a:latin typeface="Calibri"/>
            </a:endParaRPr>
          </a:p>
        </p:txBody>
      </p:sp>
      <p:sp>
        <p:nvSpPr>
          <p:cNvPr id="123" name="PlaceHolder 2"/>
          <p:cNvSpPr>
            <a:spLocks noGrp="1"/>
          </p:cNvSpPr>
          <p:nvPr>
            <p:ph/>
          </p:nvPr>
        </p:nvSpPr>
        <p:spPr>
          <a:xfrm>
            <a:off x="539640" y="4797000"/>
            <a:ext cx="8229240" cy="1511640"/>
          </a:xfrm>
          <a:prstGeom prst="rect">
            <a:avLst/>
          </a:prstGeom>
          <a:noFill/>
          <a:ln w="0">
            <a:noFill/>
          </a:ln>
        </p:spPr>
        <p:txBody>
          <a:bodyPr anchor="t">
            <a:normAutofit fontScale="57000"/>
          </a:bodyPr>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Источники питания ЭОП должны быть рассчитаны на высокие напряжения (от сотен вольт до нескольких киловольт) и малые токи (10</a:t>
            </a:r>
            <a:r>
              <a:rPr b="0" lang="ru-RU" sz="3200" spc="-1" strike="noStrike" baseline="30000">
                <a:solidFill>
                  <a:srgbClr val="000000"/>
                </a:solidFill>
                <a:latin typeface="Calibri"/>
              </a:rPr>
              <a:t>−8</a:t>
            </a:r>
            <a:r>
              <a:rPr b="0" lang="ru-RU" sz="3200" spc="-1" strike="noStrike">
                <a:solidFill>
                  <a:srgbClr val="000000"/>
                </a:solidFill>
                <a:latin typeface="Calibri"/>
              </a:rPr>
              <a:t>–10</a:t>
            </a:r>
            <a:r>
              <a:rPr b="0" lang="ru-RU" sz="3200" spc="-1" strike="noStrike" baseline="30000">
                <a:solidFill>
                  <a:srgbClr val="000000"/>
                </a:solidFill>
                <a:latin typeface="Calibri"/>
              </a:rPr>
              <a:t>−9</a:t>
            </a:r>
            <a:r>
              <a:rPr b="0" lang="ru-RU" sz="3200" spc="-1" strike="noStrike">
                <a:solidFill>
                  <a:srgbClr val="000000"/>
                </a:solidFill>
                <a:latin typeface="Calibri"/>
              </a:rPr>
              <a:t> А)</a:t>
            </a:r>
            <a:endParaRPr b="0" lang="ru-RU" sz="3200" spc="-1" strike="noStrike">
              <a:solidFill>
                <a:srgbClr val="000000"/>
              </a:solidFill>
              <a:latin typeface="Calibri"/>
            </a:endParaRPr>
          </a:p>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ВИП на примере встроенного источника питания малогабаритного ЭОП II+ и III поколений, в структуре которого используются микроканальные пластины</a:t>
            </a:r>
            <a:endParaRPr b="0" lang="ru-RU" sz="3200" spc="-1" strike="noStrike">
              <a:solidFill>
                <a:srgbClr val="000000"/>
              </a:solidFill>
              <a:latin typeface="Calibri"/>
            </a:endParaRPr>
          </a:p>
        </p:txBody>
      </p:sp>
      <p:pic>
        <p:nvPicPr>
          <p:cNvPr id="124" name="Picture 3" descr=""/>
          <p:cNvPicPr/>
          <p:nvPr/>
        </p:nvPicPr>
        <p:blipFill>
          <a:blip r:embed="rId1">
            <a:extLst>
              <a:ext uri="{BEBA8EAE-BF5A-486C-A8C5-ECC9F3942E4B}">
                <a14:imgProps xmlns:a14="http://schemas.microsoft.com/office/drawing/2010/main">
                  <a14:imgLayer r:embed="rId2">
                    <a14:imgEffect>
                      <a14:brightnessContrast amount="48000" contrast="-29000"/>
                    </a14:imgEffect>
                  </a14:imgLayer>
                </a14:imgProps>
              </a:ext>
            </a:extLst>
          </a:blip>
          <a:stretch/>
        </p:blipFill>
        <p:spPr>
          <a:xfrm>
            <a:off x="1259640" y="908640"/>
            <a:ext cx="6336360" cy="38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1640" y="332640"/>
            <a:ext cx="8568720" cy="5793120"/>
          </a:xfrm>
          <a:prstGeom prst="rect">
            <a:avLst/>
          </a:prstGeom>
          <a:noFill/>
          <a:ln w="0">
            <a:noFill/>
          </a:ln>
        </p:spPr>
        <p:txBody>
          <a:bodyPr anchor="t">
            <a:normAutofit fontScale="41000"/>
          </a:bodyPr>
          <a:p>
            <a:pPr indent="0">
              <a:lnSpc>
                <a:spcPct val="100000"/>
              </a:lnSpc>
              <a:spcBef>
                <a:spcPts val="641"/>
              </a:spcBef>
              <a:buNone/>
              <a:tabLst>
                <a:tab algn="l" pos="0"/>
              </a:tabLst>
            </a:pPr>
            <a:r>
              <a:rPr b="0" lang="ru-RU" sz="3200" spc="-1" strike="noStrike">
                <a:solidFill>
                  <a:srgbClr val="000000"/>
                </a:solidFill>
                <a:latin typeface="Calibri"/>
              </a:rPr>
              <a:t>Первоначально постоянное напряжение с первичного источника питания (например, малогабаритных аккумуляторов или батареек) 1 поступает на инверторы 2 и 4, которые преобразуют его в переменное напряжение, которое с помощью миниатюрного трансформатора преобразуется в переменные напряжения в сотни и тысячи вольт. Напряжение с выхода первого инвертора 2 подается на первый высоковольтный умножитель напряжения (ВУН) 6, который преобразует переменное входное напряжение в постоянное высоковольтное напряжение, подаваемое на МКП 11, а также на второй ВУН5. На вход второго ВУН5 также поступает переменное напряжение со второго инвертора 4. Затем система из высоковольтных умножителей напряжений преобразует данное напряжение в соответствующие постоянные напряжения, которые подаются на вакуумный блок ЭОП. Типовой ток, который необходим для первичного питания современных ЭОП, составляет от 20 мА до 30 мА при напряжении 3 В. Следовательно, потребляемая мощность ЭОП менее 100 мВт. При таком энергопотреблении две батарейки типа AA обеспечивают работу современных ЭОП в течение десятков часов при температуре порядка 20 ◦C.</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низких уровнях освещенности фотокатода ЭОП встроенный источник электропитания обеспечивает оптимальное функционирование современных ЭОП. Например, если освещенность фотокатода увеличивается в два раза, два контура источника уменьшают коэффициент усиления современных ЭОП. Первый контур управления получил название «автоматическая регулировка яркости» (АРЯ) и обычно включается при уровнях освещенности, соответствующих естественной освещенности от четверти Луны. Схема АРЯ измеряет полный поток фотоэлектронов на резисторе</a:t>
            </a:r>
            <a:r>
              <a:rPr b="0" lang="en-US" sz="3200" spc="-1" strike="noStrike">
                <a:solidFill>
                  <a:srgbClr val="000000"/>
                </a:solidFill>
                <a:latin typeface="Calibri"/>
              </a:rPr>
              <a:t> R</a:t>
            </a:r>
            <a:r>
              <a:rPr b="0" lang="ru-RU" sz="3200" spc="-1" strike="noStrike">
                <a:solidFill>
                  <a:srgbClr val="000000"/>
                </a:solidFill>
                <a:latin typeface="Calibri"/>
              </a:rPr>
              <a:t>, падающий на экран ЭОП, а второй контур обратной связи корректирует приложенное к МКП напряжение, изменяя усиление МКП таким образом, чтобы полный ток экрана не превышал некоторого заданного уровня. Принцип действия схемы АРЯ заключается в ограничении среднего уровня яркости экрана при изменении освещенности фотокатода от низких ночных уровней естественной освещенности до высоких сумеречных уровней освещенности до высоких сумеречных уровней.</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этом следует иметь в виду, что качество изображения значительно ухудшается при сумеречных и более высоких уровнях освещенности фотокатода, обусловленных зарядкой МКП от второго контура управления источника питания современных ЭОП. Этот второй контур управления источника питания ЭОП получил название «защита фотокатода от ярких источников». Основным элементом контура является «гасящий» резистор с номинальным сопротивлением порядка 5–20 ГОм, подключенный последовательно с напряжением, приложенным между фотокатодом и входом МКП. Схема защиты фотокатода, работая совместно со схемой АРЯ, уменьшает усиление ЭОП при высокой входной освещенности фотокат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127" name="Picture 2" descr=""/>
          <p:cNvPicPr/>
          <p:nvPr/>
        </p:nvPicPr>
        <p:blipFill>
          <a:blip r:embed="rId1">
            <a:extLst>
              <a:ext uri="{BEBA8EAE-BF5A-486C-A8C5-ECC9F3942E4B}">
                <a14:imgProps xmlns:a14="http://schemas.microsoft.com/office/drawing/2010/main">
                  <a14:imgLayer r:embed="rId2">
                    <a14:imgEffect>
                      <a14:brightnessContrast amount="52000" bright="18000" contrast="-49000"/>
                    </a14:imgEffect>
                  </a14:imgLayer>
                </a14:imgProps>
              </a:ext>
            </a:extLst>
          </a:blip>
          <a:stretch/>
        </p:blipFill>
        <p:spPr>
          <a:xfrm>
            <a:off x="863640" y="1000440"/>
            <a:ext cx="7596360" cy="471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44160" y="3501000"/>
            <a:ext cx="8362800" cy="2664000"/>
          </a:xfrm>
          <a:prstGeom prst="rect">
            <a:avLst/>
          </a:prstGeom>
          <a:noFill/>
          <a:ln w="0">
            <a:noFill/>
          </a:ln>
        </p:spPr>
        <p:txBody>
          <a:bodyPr anchor="t">
            <a:noAutofit/>
          </a:bodyPr>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На рис. показана упрощенная схема процесса катодолюминесценции в кристалле . Поглощаясь в кристалле, первичный электрон с большой энергией расходует ее главным образом на перевод электронов из заполненной валентной зоны в зону проводимости, образуя дырки в валентной зоне. При этом первичный электрон может последовательно передать свою энергию многим электронам, создавая весьма большое число возбужденных электронов и дырок. Эти электроны и дырки дрейфуют по кристаллу в соответствующих  зонах до тех пор, пока не будут захвачены ловушками или центрами люминесценции, соответственно.</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Ловушки представляют собой локальные незаполненные возбужденные уровни 6, лежащие на глубине в несколько десятых долей электронвольта ниже зоны проводимости. Эти уровни могут быть образованы химическими примесями либо вакансиями. Электрон в ловушке находится до тех пор, пока ему не передастся энергия от колебаний решетки, достаточная для перехода его снова в зону проводимости, после чего он вновь может быть захвачен ловушкой.</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Время пребывания электрона в ловушке зависит от типа примеси, создающей уровни возбужденного состояния и от относительного числа ловушек и центров люминесценции. Ловушки запасают энергию и обусловливают длительность высвечивания люминофора.</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Центры люминесценции создаются на уровнях основного состояния, образуемых преднамеренно внесенными активаторами (для сульфидных люминофоров в качестве активаторов используют серебро, медь и ряд других металлов). </a:t>
            </a:r>
            <a:endParaRPr b="0" lang="ru-RU" sz="1000" spc="-1" strike="noStrike">
              <a:solidFill>
                <a:srgbClr val="000000"/>
              </a:solidFill>
              <a:latin typeface="Calibri"/>
            </a:endParaRPr>
          </a:p>
        </p:txBody>
      </p:sp>
      <p:pic>
        <p:nvPicPr>
          <p:cNvPr id="85" name="Picture 2" descr=""/>
          <p:cNvPicPr/>
          <p:nvPr/>
        </p:nvPicPr>
        <p:blipFill>
          <a:blip r:embed="rId1"/>
          <a:stretch/>
        </p:blipFill>
        <p:spPr>
          <a:xfrm>
            <a:off x="2123640" y="20880"/>
            <a:ext cx="4803480" cy="2207880"/>
          </a:xfrm>
          <a:prstGeom prst="rect">
            <a:avLst/>
          </a:prstGeom>
          <a:ln w="0">
            <a:noFill/>
          </a:ln>
        </p:spPr>
      </p:pic>
      <p:sp>
        <p:nvSpPr>
          <p:cNvPr id="86" name="Прямоугольник 3"/>
          <p:cNvSpPr/>
          <p:nvPr/>
        </p:nvSpPr>
        <p:spPr>
          <a:xfrm>
            <a:off x="745200" y="2565000"/>
            <a:ext cx="75603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Рис. Схема процесса катодолюминесценции: 1 —возбуждающий электрон; 2 — возбужденный электрон; 3 —электроны; 4 —«ловушки»;5 —зона проводимости; 6 — незаполненные возбужденные уровни; 7 — процесс рекомбинации; 8 — излучение фотона; 9 — уровни основного состояния; 10 — валентная зона; 11 — центры люминесценции; 12 —дырк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11640" y="225720"/>
            <a:ext cx="8229240" cy="2548440"/>
          </a:xfrm>
          <a:prstGeom prst="rect">
            <a:avLst/>
          </a:prstGeom>
          <a:noFill/>
          <a:ln w="0">
            <a:noFill/>
          </a:ln>
        </p:spPr>
        <p:txBody>
          <a:bodyPr anchor="t">
            <a:normAutofit fontScale="58000"/>
          </a:bodyPr>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зависимости от спектральной чувствительности приемника (глаз,</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ПЗС- или КМОП-матрица, фотопленка, фотокатод другого ЭОП и др.)</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ЭОП используют катодолюминофоры с различными спектральными</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ами излучения. </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Спектральные характеристики катодолюминофоров зеленого (КС-525 и К-60. а также их зарубежные аналоги Р24 и Р46, соответственно) и синего (К-71 и его зарубежный аналог Р47) свечения, наиболее часто применяемые для экранов современных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88" name="Picture 2" descr=""/>
          <p:cNvPicPr/>
          <p:nvPr/>
        </p:nvPicPr>
        <p:blipFill>
          <a:blip r:embed="rId1"/>
          <a:stretch/>
        </p:blipFill>
        <p:spPr>
          <a:xfrm>
            <a:off x="2555640" y="2421000"/>
            <a:ext cx="4680000" cy="412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88640"/>
            <a:ext cx="8229240" cy="5937120"/>
          </a:xfrm>
          <a:prstGeom prst="rect">
            <a:avLst/>
          </a:prstGeom>
          <a:noFill/>
          <a:ln w="0">
            <a:noFill/>
          </a:ln>
        </p:spPr>
        <p:txBody>
          <a:bodyPr anchor="t">
            <a:normAutofit fontScale="54000"/>
          </a:bodyPr>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Энергетические характеристики экранов ЭОП определяются их световой отдачей и энергетическим выходом катодолюминесценции.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Световая отдача экрана, измеряемая в люменах светового излучения на 1 Вт мощности электронного пучка, возбуждающего экран, определяется соотношением</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где γэ — энергетический выход люминесценции, определяющий долю энергии электронного пучка, возбуждающего экран, которая выделяется в виде световых квантов; V (λ) — кривая видности глаза; p(λ) —относительная спектральная интенсивность излучения экрана.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Для экранов из отечественного катодолюминофора К-67 желто-зеленого цвета (зарубежный аналог Р20) величина спектрального соответствия излучаемого света и чувствительности глаза близка к 0,7. Экраны из этого люминофора в ЭОП при энергии электронного пучка 12–15 кэВ имеют светоотдачу 45–50 лм/Вт. Энергетический выход таких экранов составляет около 15%. У экранов из сульфидных катодолюминофоров синего свечения энергетический выход достигает 20%. Светоотдача экранов из таких катодолюминофоров мала из-за низкого спектрального соответствия спектральной чувствительности глаза.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p:txBody>
      </p:sp>
      <p:pic>
        <p:nvPicPr>
          <p:cNvPr id="90" name="Picture 4" descr=""/>
          <p:cNvPicPr/>
          <p:nvPr/>
        </p:nvPicPr>
        <p:blipFill>
          <a:blip r:embed="rId1">
            <a:extLst>
              <a:ext uri="{BEBA8EAE-BF5A-486C-A8C5-ECC9F3942E4B}">
                <a14:imgProps xmlns:a14="http://schemas.microsoft.com/office/drawing/2010/main">
                  <a14:imgLayer r:embed="rId2">
                    <a14:imgEffect>
                      <a14:brightnessContrast amount="100000" bright="2000" contrast="-6000"/>
                    </a14:imgEffect>
                  </a14:imgLayer>
                </a14:imgProps>
              </a:ext>
            </a:extLst>
          </a:blip>
          <a:stretch/>
        </p:blipFill>
        <p:spPr>
          <a:xfrm>
            <a:off x="3060000" y="1556640"/>
            <a:ext cx="3580200" cy="9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39640" y="404640"/>
            <a:ext cx="8229240" cy="4525560"/>
          </a:xfrm>
          <a:prstGeom prst="rect">
            <a:avLst/>
          </a:prstGeom>
          <a:noFill/>
          <a:ln w="0">
            <a:noFill/>
          </a:ln>
        </p:spPr>
        <p:txBody>
          <a:bodyPr anchor="t">
            <a:normAutofit fontScale="52000"/>
          </a:bodyPr>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Используемые катодолюминофоры КС-527 и Р20 имеют размер частиц от 1 до 3 (5) мкм, а самые последние катодолюминофоры КФЛ-544 и Р43, Р45 — в пределах от 1 до 2 мкм. Толщину номинального слоя катодолюминофора приблизительно можно оценить, умножив на 1,5 средний размер частиц.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Если провести сравнение эффективности различных типов катодолюминофо-</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ров, то эффективность катодолюминофоров типа К-71 и Р22 (G) на 10% выше, чем КФЛ-544 и Р43 и приблизительно на 20% выше, чем  КС-527 и Р20.</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Проведенные исследования, направленные на увеличение пространственного разрешения ЭОП, обосновали оптимальные параметры катодолюминесцентных экранов ЭОП: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номинальный размер частиц должен быть уменьшен до 1 мкм,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толщина слоя алюминирования должна быть уменьшена от 100 нм до менее 75 нм,</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ускоряющее напряжение должно быть уменьшено с 6000 В до 4200 В.</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858800" cy="70560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imes New Roman"/>
              </a:rPr>
              <a:t>временные характеристики различных катодолюминофоров</a:t>
            </a:r>
            <a:endParaRPr b="0" lang="ru-RU" sz="2800" spc="-1" strike="noStrike">
              <a:solidFill>
                <a:srgbClr val="000000"/>
              </a:solidFill>
              <a:latin typeface="Calibri"/>
            </a:endParaRPr>
          </a:p>
        </p:txBody>
      </p:sp>
      <p:sp>
        <p:nvSpPr>
          <p:cNvPr id="93" name="PlaceHolder 2"/>
          <p:cNvSpPr>
            <a:spLocks noGrp="1"/>
          </p:cNvSpPr>
          <p:nvPr>
            <p:ph/>
          </p:nvPr>
        </p:nvSpPr>
        <p:spPr>
          <a:xfrm>
            <a:off x="251640" y="1196640"/>
            <a:ext cx="5472360" cy="4929120"/>
          </a:xfrm>
          <a:prstGeom prst="rect">
            <a:avLst/>
          </a:prstGeom>
          <a:noFill/>
          <a:ln w="0">
            <a:noFill/>
          </a:ln>
        </p:spPr>
        <p:txBody>
          <a:bodyPr anchor="t">
            <a:normAutofit/>
          </a:bodyPr>
          <a:p>
            <a:pPr indent="0">
              <a:lnSpc>
                <a:spcPct val="100000"/>
              </a:lnSpc>
              <a:spcBef>
                <a:spcPts val="320"/>
              </a:spcBef>
              <a:buNone/>
              <a:tabLst>
                <a:tab algn="l" pos="0"/>
              </a:tabLst>
            </a:pPr>
            <a:r>
              <a:rPr b="0" lang="ru-RU" sz="1600" spc="-1" strike="noStrike">
                <a:solidFill>
                  <a:srgbClr val="000000"/>
                </a:solidFill>
                <a:latin typeface="Calibri"/>
              </a:rPr>
              <a:t>Для прицелов ночного видения используются катодолюминофоры с очень большой постоянной времени, поэтому они обладают самым низким быстродействием. </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Для инверторных ЭОП были специально разработаны катодолюминофоры: отечественный типа К-67 и зарубежный аналог типа Р1 (с большимбыстродействием) и отечественный типа КС-528 и зарубежный аналог типа Р39 (с малым быстродействием).</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000000"/>
                </a:solidFill>
                <a:latin typeface="Calibri"/>
              </a:rPr>
              <a:t>Для экранов ЭОП с планарной фокусировкой, которые разрабатывались для очков ночного видения  для авиации, использовались катодолюминофоры с большим быстродействием, так как необходимо обеспечить оператору  быстрый просмотр окружающего пространства. В первоначальных разработках для ОНВ использовались катодолюминофоры: отечественный типа КС-525 и зарубежный аналог типа Р24. Позднее они были заменены на  отечественный типа КС-527 и зарубежный Р20 </a:t>
            </a:r>
            <a:endParaRPr b="0" lang="ru-RU" sz="1600" spc="-1" strike="noStrike">
              <a:solidFill>
                <a:srgbClr val="000000"/>
              </a:solidFill>
              <a:latin typeface="Calibri"/>
            </a:endParaRPr>
          </a:p>
        </p:txBody>
      </p:sp>
      <p:pic>
        <p:nvPicPr>
          <p:cNvPr id="94" name="Picture 2" descr=""/>
          <p:cNvPicPr/>
          <p:nvPr/>
        </p:nvPicPr>
        <p:blipFill>
          <a:blip r:embed="rId1"/>
          <a:stretch/>
        </p:blipFill>
        <p:spPr>
          <a:xfrm>
            <a:off x="5508000" y="908640"/>
            <a:ext cx="3897000" cy="30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2640"/>
            <a:ext cx="8074800" cy="647640"/>
          </a:xfrm>
          <a:prstGeom prst="rect">
            <a:avLst/>
          </a:prstGeom>
          <a:noFill/>
          <a:ln w="0">
            <a:noFill/>
          </a:ln>
        </p:spPr>
        <p:txBody>
          <a:bodyPr anchor="ctr">
            <a:normAutofit/>
          </a:bodyPr>
          <a:p>
            <a:pPr indent="0" algn="ctr">
              <a:lnSpc>
                <a:spcPct val="100000"/>
              </a:lnSpc>
              <a:buNone/>
            </a:pPr>
            <a:r>
              <a:rPr b="0" lang="ru-RU" sz="2400" spc="-1" strike="noStrike">
                <a:solidFill>
                  <a:srgbClr val="000000"/>
                </a:solidFill>
                <a:latin typeface="Calibri"/>
              </a:rPr>
              <a:t>Выходной волоконно-оптический элемент ЭОП</a:t>
            </a:r>
            <a:endParaRPr b="0" lang="ru-RU" sz="2400" spc="-1" strike="noStrike">
              <a:solidFill>
                <a:srgbClr val="000000"/>
              </a:solidFill>
              <a:latin typeface="Calibri"/>
            </a:endParaRPr>
          </a:p>
        </p:txBody>
      </p:sp>
      <p:sp>
        <p:nvSpPr>
          <p:cNvPr id="96" name="PlaceHolder 2"/>
          <p:cNvSpPr>
            <a:spLocks noGrp="1"/>
          </p:cNvSpPr>
          <p:nvPr>
            <p:ph/>
          </p:nvPr>
        </p:nvSpPr>
        <p:spPr>
          <a:xfrm>
            <a:off x="323640" y="1196640"/>
            <a:ext cx="8640720" cy="4929120"/>
          </a:xfrm>
          <a:prstGeom prst="rect">
            <a:avLst/>
          </a:prstGeom>
          <a:noFill/>
          <a:ln w="0">
            <a:noFill/>
          </a:ln>
        </p:spPr>
        <p:txBody>
          <a:bodyPr anchor="t">
            <a:normAutofit fontScale="71000"/>
          </a:bodyPr>
          <a:p>
            <a:pPr marL="313920" indent="-31392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1900" spc="-1" strike="noStrike">
                <a:solidFill>
                  <a:srgbClr val="000000"/>
                </a:solidFill>
                <a:latin typeface="Calibri"/>
              </a:rPr>
              <a:t>Самым распространенным типом является так называемый «прямой» волоконно-оптический элемент, выходная поверхность которого может быть плоской — для стыковки с другими элементами (например, с ПЗС- или КМОП-матрицей) или сферической — для упрощения проектирования окуляров. В качестве выходного волоконно-оптического элемента могут использоваться так называемые волоконно-оптические фоконы с уменьшением размера выходного изображения для стыковки с ПЗС- или КМОП-матрицей, а также с увеличением изображения для бинокулярных приборов ночного видения транспортных средств.</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marL="313920" indent="-313920" algn="just">
              <a:lnSpc>
                <a:spcPct val="100000"/>
              </a:lnSpc>
              <a:spcBef>
                <a:spcPts val="380"/>
              </a:spcBef>
              <a:buClr>
                <a:srgbClr val="000000"/>
              </a:buClr>
              <a:buFont typeface="Arial"/>
              <a:buChar char="•"/>
            </a:pPr>
            <a:r>
              <a:rPr b="0" lang="ru-RU" sz="1900" spc="-1" strike="noStrike">
                <a:solidFill>
                  <a:srgbClr val="000000"/>
                </a:solidFill>
                <a:latin typeface="Calibri"/>
              </a:rPr>
              <a:t>Системы ночного видения, состоящие из объектива, формирующего на фотокатоде ЭОП перевернутое изображение, ЭОП с планарной фокусировкой и стандартного окуляра, должны содержать элемент, который повторно инвертировал бы изображение. Обычно данный разворот осуществляется волоконно-оптическим инвертором («твистером»), который разворачивает изображение на 180◦ от одного конца к другому. Длина данного «твистера» не превышает 25 мм</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7" name="Picture 2" descr=""/>
          <p:cNvPicPr/>
          <p:nvPr/>
        </p:nvPicPr>
        <p:blipFill>
          <a:blip r:embed="rId1"/>
          <a:stretch/>
        </p:blipFill>
        <p:spPr>
          <a:xfrm>
            <a:off x="3132000" y="2637000"/>
            <a:ext cx="3066840" cy="140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88640"/>
            <a:ext cx="8229240" cy="593712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Телевизионные модули на основе ЭОП III и III+ поколений: 1 —</a:t>
            </a:r>
            <a:endParaRPr b="0" lang="ru-RU"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стеклянное входное окно; 2 —фотокатод;3 — выходная волоконно-оптическая пластина; 4 — ПЗС- или КМОП-матрица; 5 — волоконно-оптический фокон; 6 —МКП;7 —ВИП</a:t>
            </a:r>
            <a:endParaRPr b="0" lang="ru-RU" sz="2000" spc="-1" strike="noStrike">
              <a:solidFill>
                <a:srgbClr val="000000"/>
              </a:solidFill>
              <a:latin typeface="Calibri"/>
            </a:endParaRPr>
          </a:p>
        </p:txBody>
      </p:sp>
      <p:pic>
        <p:nvPicPr>
          <p:cNvPr id="99" name="Picture 2" descr=""/>
          <p:cNvPicPr/>
          <p:nvPr/>
        </p:nvPicPr>
        <p:blipFill>
          <a:blip r:embed="rId1"/>
          <a:stretch/>
        </p:blipFill>
        <p:spPr>
          <a:xfrm>
            <a:off x="3271680" y="2585880"/>
            <a:ext cx="4612320" cy="299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Words>2940</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ha</cp:lastModifiedBy>
  <dcterms:modified xsi:type="dcterms:W3CDTF">2019-11-18T02:57:45Z</dcterms:modified>
  <cp:revision>33</cp:revision>
  <dc:subject/>
  <dc:title> Катодолюминесцентные экраны ЭОП.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